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45B-053E-4961-ADA2-5CF8ABCC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588-8150-43B4-A908-AA3BE65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34E-9133-4947-9E96-F8B73BF0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06A-79F8-40B6-A0A4-C8947697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4A4-036C-4CCA-95CA-2B27074D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DA7-49C4-49A8-9128-2CF63A1F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5B9-C197-4A4A-B70B-7EA1B9C5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F08-5808-4966-B987-B3A46DD9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9E5-2566-4715-A212-42E419C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73F-04D2-43CF-8D5B-A61F3FE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CAA-96C5-4DB1-8F06-FA353CD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6D7-C9FA-43FE-8342-70DAFAF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806-A4ED-4E60-BA15-58E2529B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GPH 338</a:t>
            </a:r>
            <a:br>
              <a:rPr sz="3900"/>
            </a:b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Butterfly animation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Verdana"/>
              </a:rPr>
              <a:t>Win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95600" y="1519200"/>
            <a:ext cx="3952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4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5600" y="1519200"/>
            <a:ext cx="3952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4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4721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5600" y="1519200"/>
            <a:ext cx="3952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4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553080" cy="487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81080" y="542124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Key frame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Motion curve – familiar? –sin/c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expres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533412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Right click on the channel you need to work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Click on “Expressions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Type in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762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4562280" cy="540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267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Type in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419720" cy="3289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2520" y="3886200"/>
            <a:ext cx="547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Rotation Z= 60 * sin (4*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ive you basic rot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nk deep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Rotation Z= Start_rotation_angle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Rotation_amplify * 30 * sin (frequency*4*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ve more control…-&gt; customize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019840" cy="338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5120" y="137160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Put it in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5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Pivot point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Parent and Child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Using expression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Add customize attribute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Path animation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Re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218600"/>
            <a:ext cx="670572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ivot points control how objects rotate and scale, and also represent the exact locations of objects in sp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ll transformations to an object are relative to the pivot po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change the pivot po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essing</a:t>
            </a: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Verdana"/>
              </a:rPr>
              <a:t>Insert</a:t>
            </a:r>
            <a:r>
              <a:rPr b="0" i="1" lang="en-US" sz="2000" spc="-1" strike="noStrike">
                <a:solidFill>
                  <a:srgbClr val="cc0000"/>
                </a:solidFill>
                <a:latin typeface="Verdana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ing the pivot point manip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3581280"/>
          <a:ext cx="5943600" cy="2770200"/>
        </p:xfrm>
        <a:graphic>
          <a:graphicData uri="http://schemas.openxmlformats.org/drawingml/2006/table">
            <a:tbl>
              <a:tblPr/>
              <a:tblGrid>
                <a:gridCol w="1936080"/>
                <a:gridCol w="40075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ti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tionship to Piv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6f6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es the pivot point (and the object travels along with it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cfcf9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6f6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s object out from or in toward the pivot point.                   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cfcf9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6f6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tates object around the pivot point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        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cfcf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1828800" cy="78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0" y="5410080"/>
            <a:ext cx="1752480" cy="77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56240" y="6094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e pivo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915400" cy="358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77800" y="762120"/>
            <a:ext cx="576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ivot points by default is at center of world sp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ut, it can be anywhere you wa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47800" y="1509840"/>
            <a:ext cx="3848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2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62080" y="1509840"/>
            <a:ext cx="5019840" cy="338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914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9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ierarchy--</a:t>
            </a: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Parent and Chi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112760"/>
            <a:ext cx="6933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scene hierarchy is the grouping of child nodes under parent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ou can view and edit the scene hierarchy with the </a:t>
            </a: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Outline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i="1" lang="en-US" sz="2000" spc="-1" strike="noStrike">
                <a:solidFill>
                  <a:srgbClr val="cc0000"/>
                </a:solidFill>
                <a:latin typeface="Verdana"/>
              </a:rPr>
              <a:t>Hyper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2481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022400"/>
            <a:ext cx="74026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"Parentin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stablishing hierarchy ~ Parenting ob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en make node B the child of node A, we say you have parented node B to node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 control multiple objects with one node, you can group objects together under a new transform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y grouping objects, you can move, shade, texture, and do many other actions to all the objects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oup itself, to create a dummy parent node, (create another animation layer out of itself), which make it more easier to work with…Organ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019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4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19:32Z</dcterms:created>
  <dc:creator>dpumedia</dc:creator>
  <dc:description/>
  <dc:language>en-US</dc:language>
  <cp:lastModifiedBy>cti</cp:lastModifiedBy>
  <dcterms:modified xsi:type="dcterms:W3CDTF">2007-01-31T21:59:03Z</dcterms:modified>
  <cp:revision>148</cp:revision>
  <dc:subject/>
  <dc:title>Slide 1</dc:title>
</cp:coreProperties>
</file>